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393-F40C-4630-A3B3-BF530D6F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EF4-D45F-4336-9C16-DEC8A653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25E-1E84-47A8-8F53-7C9F614E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91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9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91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9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00C-4EB0-46E4-A560-0AB521D0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FD62-5608-4A78-A946-BA0F4A43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216-CD4E-41E9-AF8D-40B4591C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F1A8-8D90-4170-BB3B-41540F62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871B-871A-4D9D-A6C1-DAA898C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2BC4-B65A-4F27-BC09-C582700B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4CC0-D489-423E-9666-3A5D2A69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4F2-3ED3-4628-934B-90567EAC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F9C-F03C-4B5E-8686-1CD7DEC5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4873-7915-434B-AC6C-ADA4734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3446-C1A3-4410-8BCD-18076D09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BE59-E4D7-4445-AA99-D2D3F96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2B5D-8D34-4336-A45A-3D6420E0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491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6496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333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491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6496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1EC-9FDF-47FB-B1AE-2C063E27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E4F-3D07-4C2E-86A2-DB7C472A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372-ED3C-4381-B5BE-5336A121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72C-6023-4D2A-B860-2D021A8D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188-1E94-4577-9BBE-0428E6BB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C47-68A7-4049-858E-C2B5A4D3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9144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8D3-A986-4496-8E9E-4657321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144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4130640"/>
            <a:ext cx="6553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6B1-81ED-4BAE-B2F7-844DAD89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8BA6-F0A6-416F-B2B3-B32CE251467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CBCC-356A-47DE-9C61-A8916D6CB1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ng, Observing, Hypothesiz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274320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your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ypothesis is always based upon evidence.  It’s the logical conclusion you have based upon the evidence at hand.  What’s your evid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e to a consensus in your group as to what you think the answer i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Vs. Scien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as the cube exercis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ci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as it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ike scienc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 Review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group, make sure everybody can define and give an example of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b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ed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now the difference between observations, predictions, and hypothe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 able to make an observation, prediction, and hypothesis… that is not confused with one of the other tw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ons vs Hypothe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13716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DICTION: The observation you think you will make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Basically, what you think is about to happen.  The logical outcome of your knowled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ich of these is a predic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at the shark will catch fire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he will be terrified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re will be fewer viruses than before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 dogs and sheep won’t get along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redict there will be a gravitational attraction in between the two globes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dictions vs Hypothes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YPOTHESIS:  Your propose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xplan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echanis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think is responsible for what’s going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ES: “It will catch fire because it’s swimming in gasoline near a fire, and gasoline is highly combustible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: “It will catch fire because I read in a book that it would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ystery Cub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a moment, you will receive cubes.  YOU MAY NOT MOVE THE CUBE AT ALL, NOT EVEN A LITTLE POK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RST:  What questions can you pose about your cub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an initial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redic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write it dow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: a prediction is an observation you think will prove accu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your group, make as man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observatio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bout the cube as you ca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just making OBSERVATIONS, no hypotheses or predictions right n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’s on the bottom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you have a new predic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not erase or cross out your first one!  Why no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2:29:08Z</dcterms:created>
  <dc:creator>Rebecca Stang</dc:creator>
  <dc:description/>
  <dc:language>en-US</dc:language>
  <cp:lastModifiedBy>Rebecca Stang</cp:lastModifiedBy>
  <dcterms:modified xsi:type="dcterms:W3CDTF">2009-08-28T17:55:24Z</dcterms:modified>
  <cp:revision>33</cp:revision>
  <dc:subject/>
  <dc:title>Predicting, Observing, Hypothesizing</dc:title>
</cp:coreProperties>
</file>